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BFB-84D8-47AB-ADCE-AEB9E1C9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8B2-39EC-472F-933F-FA107C4C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E0A-0579-4AE7-B675-C57DB8A9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3F2-31B2-4312-ADF5-782713C8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4C5-A8BF-4797-8AE4-88197273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49B-3D53-4011-9E01-0E5AC982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C36-922C-48A0-9CEC-FFF8896A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72C-76CB-4209-8F97-F9873032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47C-1FF2-4E86-9647-538EAAF7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36A-4C5F-4957-98D0-C5195F0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025-0608-47F0-8AC1-D07601AA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AEC-8316-493D-A2A4-38ECC522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25FB-B143-4C64-8E75-DA572146A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rackies.co.uk/nike/tracksuits/tracksuit7.jpg&amp;imgrefurl=http://www.trackies.co.uk/nike/tracksuits/tracksuit7.htm&amp;h=600&amp;w=430&amp;sz=35&amp;hl=en&amp;start=3&amp;sig2=jyJ5uKxW7cG10xKI9x8-kA&amp;um=1&amp;usg=__V2g3ZKyNj2wQJrfEzwDcwr0PjnY=&amp;tbnid=nFprrGy5ILK6_M:&amp;tbnh=135&amp;tbnw=97&amp;ei=F1f4SLfBNY2SxAGdmOXBDg&amp;prev=/images%3Fq%3Dtracksuit%26um%3D1%26hl%3Den%26rlz%3D1T4GGIH_en-GBGB261GB261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81000"/>
            <a:ext cx="8424720" cy="394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you come in, take out your school uniform descriptions from last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3 post-its from the front, and read other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rite 2 comments saying what that person has done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d 1 saying what they could improve e.g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b t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5084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con tacones al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549360"/>
            <a:ext cx="525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e) alg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of) 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e) cue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of) l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e) vaqu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of) de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12536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vamos    azules    cómodo    hay    invierno    llevo    mi    que    sudadera    vaquera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________ instituto n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forme, menos m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que queremos. Normal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que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una camiseta. Durante 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vo u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capucha o una chaque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levo zapatillas deportivas. Es mucho má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rácti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var unifo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dón    amarilla    anchos    barata    caras    chaqueta       cuero    que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os zapatillas de deporte son más  ____________que las zapatos de cue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 camise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más ____________ que la camiseta roj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quera es más barata que el abrigo de ____________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os pantalones son más ____________ que los vaqueros azu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La camisa de ____________ es más bonita ____________ la blusa neg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1700280"/>
            <a:ext cx="698508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be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ype up a description of your OWN school uniform and your ideal school 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e-mailed to Mrfulleredgehill@yahoo.co.uk by Friday 31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260280"/>
            <a:ext cx="8208720" cy="67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a canci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ón &lt;&lt;Camisa negra&gt;&gt; de Ju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u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alm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ou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r culpa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aul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 due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urts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u menti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leno de do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ll of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de q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d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er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baj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n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difun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isten to a song by Juan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try to work out what the song’s abou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learn 6 further items of cloth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3 materia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complete 2 gap-fill exercises on unifor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6) To describe your ideal uniform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5084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ch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ánd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549360"/>
            <a:ext cx="2892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58920" y="5084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abri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8360" y="880920"/>
            <a:ext cx="4248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58920" y="5084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sudade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87640" y="100476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5084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con capuch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81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5084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camise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Make your own Green is the New Black T-shirt"/>
          <p:cNvPicPr/>
          <p:nvPr/>
        </p:nvPicPr>
        <p:blipFill>
          <a:blip r:embed="rId1"/>
          <a:stretch/>
        </p:blipFill>
        <p:spPr>
          <a:xfrm>
            <a:off x="2700360" y="1095480"/>
            <a:ext cx="39592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58920" y="5084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s bo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christian louboutin boots"/>
          <p:cNvPicPr/>
          <p:nvPr/>
        </p:nvPicPr>
        <p:blipFill>
          <a:blip r:embed="rId1"/>
          <a:stretch/>
        </p:blipFill>
        <p:spPr>
          <a:xfrm>
            <a:off x="1971720" y="552600"/>
            <a:ext cx="43578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9:01:44Z</dcterms:created>
  <dc:creator>Owner1</dc:creator>
  <dc:description/>
  <dc:language>en-US</dc:language>
  <cp:lastModifiedBy>Owner1</cp:lastModifiedBy>
  <dcterms:modified xsi:type="dcterms:W3CDTF">2008-10-28T08:30:12Z</dcterms:modified>
  <cp:revision>3</cp:revision>
  <dc:subject/>
  <dc:title>Slide 1</dc:title>
</cp:coreProperties>
</file>